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16A-0F53-4FCA-9B6D-37803AFE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820-EB15-4B93-AB16-FEA208DE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668-A93D-4E1E-98CF-5EC8B795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19A-FB31-4146-85BF-2DE0CCAD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8C25-7DA6-47A4-B7E7-01F70517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0A56-49CE-4A3B-A3B1-EDD7AED2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E428-EA5C-4CCE-B07E-12836986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8CAC-17E6-40A5-8144-73F9B735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F545-E9D6-47DA-BB3C-9EE54989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1B2D-7EC9-4283-9AF5-31E3988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A7BA-7E63-4894-A8ED-CCF8DA2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DB2-9349-445C-A60A-0CED0A02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868F-2148-4D1E-A75F-6336C98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A762-521B-4C4D-AA4A-17A4499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0E8F-E015-4296-835E-839D2D4F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EF48-33E5-46B2-8D98-B3A6C198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D454-1D39-4F5E-9D74-281AFDE1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3BD-B368-4E68-A423-51F12EA5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8CD-07BC-4C58-8356-89D38260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418-E72D-46AF-85E7-A0CED2F6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A83-6A0E-404E-8528-34A8E24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D0A-2796-4AE4-A552-DF9F2679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B27-9BEB-4932-A867-1812C94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06D-6FD8-4AE5-BC4B-84C53589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5F32-F632-4436-BD89-3DC3D4436D6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69D6-40DB-4B04-95CF-985EA0561EC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1. Co jsou to synonyma?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Slova protikladná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Slova se stejným nebo podobným význam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Eh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Tak takhle se skutečně nejmenuje…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kus to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znov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6. Které slovo není podstatným jménem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Jirk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utík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pejs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4" action="ppaction://hlinksldjump"/>
              </a:rPr>
              <a:t>stů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5" action="ppaction://hlinksldjump"/>
              </a:rPr>
              <a:t>učebni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Ale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odstatná jména jsou názvy osob, zvířat, věcí……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……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.takže toto slovo k nim patří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KUS TO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ZNOV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7. Které slovo není sloveso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praco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 poběž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čer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mluvil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4" action="ppaction://hlinksldjump"/>
              </a:rPr>
              <a:t> slyšel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5" action="ppaction://hlinksldjump"/>
              </a:rPr>
              <a:t> čist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6" action="ppaction://hlinksldjump"/>
              </a:rPr>
              <a:t> nej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7" action="ppaction://hlinksldjump"/>
              </a:rPr>
              <a:t> přeskočí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Musíš ještě procvičovat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Toto slovo je slovesem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lovesa vyjadřují děj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KUS TO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ZNOV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8.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y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752040" y="957240"/>
            <a:ext cx="67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Jaké i,y napíšeš po těchto hláskách:</a:t>
            </a:r>
            <a:br>
              <a:rPr sz="3200"/>
            </a:b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 h, ch, k, r, d, t, n?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Špatně…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Hy chy ky ry dy ty ny – tam se píše tvrdé y…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Tak znovu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Správně!!!!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Dostal ses až ke konci všech úkolů…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Doufám, žes měl co nejméně chyb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hoj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Tvůj pan učit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516720" y="5157720"/>
            <a:ext cx="172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29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KONEC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915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Děláš si legraci?</a:t>
            </a:r>
            <a:br>
              <a:rPr sz="4000"/>
            </a:b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Synonyma jsou slova se stejným a podobným významem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ět dřepů a rychle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zpátky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2. Co jsou to antonyma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Slova protikladná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lova se stejným nebo podobným význam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Ale  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Antonyma jsou: noc x d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dobře x špatně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široký x úzk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            …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jsou to te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                              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ROTIKLA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Rychle </a:t>
            </a:r>
            <a:r>
              <a:rPr b="0" lang="cs-CZ" sz="28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zpátk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3. Které slovo nepatří mezi podřazená ke slovu povolání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opelá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Učit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ední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Lhá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Kostelní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Malí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Tak to není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Toto slovo je přece povoláním …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Znov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4.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" y="1100160"/>
            <a:ext cx="759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Jaké i   y napíšeš po těchto souhláskác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ž, š, č, ř, c, j, ď, ť, ň?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Nejsi trochu natvrdlý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Ži ši či ři ci ji di ti ni    - tam se píše měkké i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pě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5. Jak se jmenuje společná část slov příbuzných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34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ynonym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Koř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krabi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5T16:06:21Z</dcterms:created>
  <dc:creator>Jirka</dc:creator>
  <dc:description/>
  <dc:language>en-US</dc:language>
  <cp:lastModifiedBy>Jirka</cp:lastModifiedBy>
  <dcterms:modified xsi:type="dcterms:W3CDTF">2004-06-05T17:40:05Z</dcterms:modified>
  <cp:revision>4</cp:revision>
  <dc:subject/>
  <dc:title>Ahoj!!!!  Nejprve si udělej deset dřepů………… </dc:title>
</cp:coreProperties>
</file>