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CEF-C5B3-4571-BC40-7A7D7058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5A9-7875-4308-9DAC-315089FB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04B-105D-4CAD-87AF-CD11239D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B5F-A5CA-4862-8E2D-4378F855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5489-3C1F-4811-A4E0-6AF956DF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ADBB-F84F-42A2-ADEB-3632F7AA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52B7-4833-4332-A7B7-7D0CE29F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2F6B-8252-4633-974A-E00BDB32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CC62-62F9-43B7-8015-AEDDA598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6713-56B5-413E-8FD2-68023B8C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7192-D633-4112-8081-8C7849E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5B2-DF31-472F-B65D-A8D0521B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50A6-13FA-4DB1-85B3-6E5C99D4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9C13-2209-4BCA-A35D-E8D768AE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68FA-7842-485C-9E69-1A2302B8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458D-0824-447D-AD39-F07B89A7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06AC-E582-4ADF-8D7C-406C0E04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FD3-50E7-4968-BC8A-5A9933C8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2A8-3BCA-4412-85DA-41C353B3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5C0-F2B1-433D-A5D6-6193AC2E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779-2A7F-44D1-BD15-F9D01EAC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AA9-17B3-444E-92AC-40706C1F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0B6-288B-42CD-B578-0BBFA180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DB9-7543-4D74-968C-EDDE6198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48D6-7085-45DD-8EE6-CB5B3D3EC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B9D2-22C1-4849-8FBF-E96EE2F4E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eec94"/>
                </a:solidFill>
                <a:latin typeface="Times New Roman"/>
              </a:rPr>
              <a:t>Otevři si školní sešit a napiš dnešní datum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eec94"/>
                </a:solidFill>
                <a:latin typeface="Times New Roman"/>
              </a:rPr>
              <a:t>1. Napiš do řádku za sebou</a:t>
            </a:r>
            <a:br>
              <a:rPr sz="4800"/>
            </a:br>
            <a:r>
              <a:rPr b="1" lang="cs-CZ" sz="4800" spc="-1" strike="noStrike">
                <a:solidFill>
                  <a:srgbClr val="feec94"/>
                </a:solidFill>
                <a:latin typeface="Times New Roman"/>
              </a:rPr>
              <a:t> násobky 3..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4470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feec94"/>
                </a:solidFill>
                <a:uFillTx/>
                <a:latin typeface="Times New Roman"/>
              </a:rPr>
              <a:t>2. Vypočítej tyto dva příklady: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6000" spc="-1" strike="noStrike">
                <a:solidFill>
                  <a:srgbClr val="feec94"/>
                </a:solidFill>
                <a:latin typeface="Times New Roman"/>
              </a:rPr>
              <a:t>56+8=</a:t>
            </a:r>
            <a:r>
              <a:rPr b="1" lang="cs-CZ" sz="6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6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6000" spc="-1" strike="noStrike">
                <a:solidFill>
                  <a:srgbClr val="feec94"/>
                </a:solidFill>
                <a:latin typeface="Times New Roman"/>
              </a:rPr>
              <a:t>56-8=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1583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eec94"/>
                </a:solidFill>
                <a:uFillTx/>
                <a:latin typeface="Times New Roman"/>
              </a:rPr>
              <a:t>3. Vypočítej slovní úlohu:</a:t>
            </a: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Adrian má v kasičce 9Kč. </a:t>
            </a:r>
            <a:br>
              <a:rPr sz="4400"/>
            </a:b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Bětka má 3krát více. Kolik korun má Bětka?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22716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Budeš-li hotov dříve, zkus ještě spočítat, kolik mají obě děti dohromady….    </a:t>
            </a: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Jinak se měj moc hezky a počkej, až Vám pan učitel řekne, že se budete střídat.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42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KONEC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5T15:56:04Z</dcterms:created>
  <dc:creator>Jirka</dc:creator>
  <dc:description/>
  <dc:language>en-US</dc:language>
  <cp:lastModifiedBy>Jirka</cp:lastModifiedBy>
  <dcterms:modified xsi:type="dcterms:W3CDTF">2004-06-05T16:05:25Z</dcterms:modified>
  <cp:revision>1</cp:revision>
  <dc:subject/>
  <dc:title>Otevři si školní sešit a napiš dnešní datum.</dc:title>
</cp:coreProperties>
</file>